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7BDB-A7EF-4540-BBCB-FE753C181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CA67-37A4-47F1-A520-7EAD022A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DD0E-ED28-47AD-9E9A-0347C07AA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B087-F4C5-4DF1-8B0C-C8151ADBD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F9861-E5EB-464A-A848-1207D575B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949105-B7B8-42C0-8677-85436DF2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F6F2A-2BF6-469E-92BA-E9646F86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F488D-F2C1-498A-99CC-28F127B8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AE616-65B1-467E-AE0D-ECD6DF98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46FFE-757E-4760-BF7C-1FC26D29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9E8AE-7F4F-4229-91A0-AE3EBAF7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1A97-F285-4563-9B64-8AE11BAE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E585B-611A-4688-922F-DD84EEEB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662EF-B653-46CC-9282-44BA0F89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9350C-0F96-4003-952D-37DCDED3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26403-2A4B-4532-BAFA-07CE440A1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E896B-8D4F-48D5-B6F4-D839C402D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21A4-476A-4A02-8D05-A0FB0D4B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713C-A0D7-4CC6-A0F9-02F65582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D931-31BF-4C89-B1E5-8841C5AB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31C7-5F37-4FAD-BED9-99618A40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3E5F-D0BC-4C5C-9502-F6DDB4CE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2170-225B-4DAB-8EE6-0553F222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ACCE-6171-406D-80D8-A5A74212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03DF-30B7-4E48-BF23-6A1464545D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50E2-A1C0-417D-A525-50328E8284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hyperlink" Target="http://www.arte.uh.edu/db/imgs/authors/A_H/De_Hoyos_Angela.jpg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ew American Poetry/New American Poets. From 1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Century to Beyond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ngston Hughes        Angela de Hoy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209680" y="4419720"/>
            <a:ext cx="1508400" cy="2012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80880" y="2971800"/>
            <a:ext cx="1774800" cy="20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langston-hughes2-smaller.jpg"/>
          <p:cNvPicPr/>
          <p:nvPr/>
        </p:nvPicPr>
        <p:blipFill>
          <a:blip r:embed="rId4"/>
          <a:stretch/>
        </p:blipFill>
        <p:spPr>
          <a:xfrm>
            <a:off x="4191120" y="4343400"/>
            <a:ext cx="1752480" cy="22096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553080" y="4343400"/>
            <a:ext cx="1600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ranscendentalism Defined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American literary and philosophical movement of the 1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entu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cendentalists first formed in New Eng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lieved that intuition and the individual conscience “transcend” experience and are better guides to truth than the senses or logical reas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ected individual spirit/the natural wor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lieved divinity was everywh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Characteristics of their New Style of Poet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ergence of free verse (instead of traditional rhyme/meter schem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ly imaginative view of the wor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luenced by self-exploration, the natural world, transcendentalism and the development of the United Stat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429000" y="5105520"/>
            <a:ext cx="2133720" cy="1476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9480" y="5181480"/>
            <a:ext cx="1828800" cy="1419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010280" y="4724280"/>
            <a:ext cx="176688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etic Too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e Ver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aph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onif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m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ite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on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on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omatopoe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14:21:08Z</dcterms:created>
  <dc:creator>Center School District</dc:creator>
  <dc:description/>
  <dc:language>en-US</dc:language>
  <cp:lastModifiedBy>Center School District</cp:lastModifiedBy>
  <dcterms:modified xsi:type="dcterms:W3CDTF">2007-02-27T15:14:51Z</dcterms:modified>
  <cp:revision>3</cp:revision>
  <dc:subject/>
  <dc:title>New American Poetry/New American Poets</dc:title>
</cp:coreProperties>
</file>